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8E75F-7E34-4548-87AE-CBA6B2AD81D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9CABE-B2DB-4285-864C-A88E54ECCCB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69C5-F7B9-419D-B4C0-17D4F85F9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1219-9E85-483D-81B5-F0040A6FD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8C28-9951-4AF6-A54A-A690F7A89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F6E3-3699-4F1B-98FA-836675EDE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2B806-D6AE-43A0-93FB-174E466AE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26EEB-4D01-4D5C-AB42-07610A31A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AE967-9169-4DD8-AD00-B9CF05D17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B2A04-C4A0-4A4C-91B2-B92562968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80132-F9D8-48DF-A3CB-6D27EE58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420E4-FA9C-4650-A0CC-55D1050FE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FB802-9A82-4A45-8CC9-3F3D343A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EC05-199A-43C1-BE16-0B731D70E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9A610-8F40-44F3-B2E4-38F9F686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9015C-E7ED-4257-AB17-1A29679A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72A39-135F-49E5-BA99-950CF2CA2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5FF0B-3A84-4B31-AEEE-C3E834865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EB7F5-8272-4FF1-A90A-15F35DE01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B9298-C72C-41D0-BA3F-BD028CFE0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80933-D28A-43A2-B5B5-DAE5F3BBD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C0674-84F8-4B2F-92CE-7FD889E28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20E7B-151F-47F1-BF5A-913D51E8E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44F86-0618-4A09-8226-9F804202D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D29E-3502-4879-92F4-D51B0D024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F3817-3BFE-48EF-A875-FAC060C5A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19255-A61D-4A11-8653-5D3E583F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1CD8F-96D0-4E0A-9E37-65DECE26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EBCB5-7F4A-4D9A-8DAB-05845A10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4159B-3D0E-46EC-8CC6-F53579543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D5330-6D2C-49C0-A28C-A6CBF599D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38BD4-4D0F-418A-A36B-388BF90DE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CCB30-09D4-4310-B592-A1940BE8F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49125-C33E-4DCB-932D-2FDE8DF93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71518-4765-434E-A0EE-7F83C91FF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F77B-69F9-4F62-A1A3-999D110B9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DF811-0625-4C4A-9FE5-7051AA639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FE9B6-6E29-4777-8EFD-13C8C361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D2020-8447-4199-86EC-1FDD4355C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A437F-876D-4C4B-BF45-F83A3584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F48E8-0C5D-4BE1-BAA0-835527C2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9F2E2-C3CF-4AFD-BCBA-CDAEB407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26021-3DC8-4EA0-86FD-40030974D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2D7F7-A763-46EB-9C35-7B4B0F102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D57F9-A225-4C61-B482-A7D73EBD4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921F-6770-4EA9-B25A-18FA248EB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6087-F94B-40A0-8EDE-AC413275A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3243-36BD-4195-8A0E-1A8391F4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72D8-0A46-4D13-B603-5522C429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439A-EE95-4D0E-A4CF-A20F71EA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A4D43-2AC5-4A15-B76E-17CB0F63B3C5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E4EAC-7E19-40F3-ADCF-51E07C331697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2A725-E26E-4CF6-842D-2FD37BFB6096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11761-4C1E-4E89-8752-61D5261ACC9E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817560" y="3131640"/>
            <a:ext cx="7175520" cy="17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3" name="Picture 2" descr="C:\Users\Оксана\Desktop\УЧИТЕЛЬ ГОДА 2025\беспилотники\L0--KWZLoBU.jpg"/>
          <p:cNvPicPr/>
          <p:nvPr/>
        </p:nvPicPr>
        <p:blipFill>
          <a:blip r:embed="rId1"/>
          <a:stretch/>
        </p:blipFill>
        <p:spPr>
          <a:xfrm>
            <a:off x="324000" y="281160"/>
            <a:ext cx="849600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5" name="Picture 2" descr="C:\Users\Оксана\Desktop\УЧИТЕЛЬ ГОДА 2025\беспилотники\suMFcTqR6FU.jpg"/>
          <p:cNvPicPr/>
          <p:nvPr/>
        </p:nvPicPr>
        <p:blipFill>
          <a:blip r:embed="rId1"/>
          <a:stretch/>
        </p:blipFill>
        <p:spPr>
          <a:xfrm>
            <a:off x="250920" y="260280"/>
            <a:ext cx="835344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7" name="Picture 2" descr="C:\Users\Оксана\Desktop\УЧИТЕЛЬ ГОДА 2025\беспилотники\m-98c6f1SCE.jpg"/>
          <p:cNvPicPr/>
          <p:nvPr/>
        </p:nvPicPr>
        <p:blipFill>
          <a:blip r:embed="rId1"/>
          <a:stretch/>
        </p:blipFill>
        <p:spPr>
          <a:xfrm>
            <a:off x="250920" y="0"/>
            <a:ext cx="8713800" cy="68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9" name="Picture 2" descr="C:\Users\Оксана\Desktop\УЧИТЕЛЬ ГОДА 2025\беспилотники\oxVAiTP1ZYk.jpg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Picture 2" descr="C:\Users\Оксана\Desktop\УЧИТЕЛЬ ГОДА 2025\беспилотники\kdh-804kAyI.jpg"/>
          <p:cNvPicPr/>
          <p:nvPr/>
        </p:nvPicPr>
        <p:blipFill>
          <a:blip r:embed="rId1"/>
          <a:stretch/>
        </p:blipFill>
        <p:spPr>
          <a:xfrm>
            <a:off x="395280" y="189000"/>
            <a:ext cx="8424720" cy="63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12-08T19:23:44Z</dcterms:created>
  <dc:creator>Оксана</dc:creator>
  <dc:description/>
  <dc:language>en-US</dc:language>
  <cp:lastModifiedBy>sch10-17</cp:lastModifiedBy>
  <dcterms:modified xsi:type="dcterms:W3CDTF">2025-09-24T09:34:42Z</dcterms:modified>
  <cp:revision>1</cp:revision>
  <dc:subject/>
  <dc:title>Презентация PowerPoint</dc:title>
</cp:coreProperties>
</file>